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237-3EE5-42AB-8616-7543A52A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E6A-C58E-4F7C-ADC8-6F31D646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CC0-5A47-489F-8DCE-C7515A9D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D30-D9E2-4C60-922D-935858E7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D2B2-A36E-46E4-9FAE-36F7B6A9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3A1C-DC4E-4B75-AD67-FD4FA16C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91B-E8B4-4BE8-AF28-5FD21DF7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6BE-5969-4017-B993-8F649447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8349-FE95-4336-9BD8-C55AF5B8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739-E2FB-4307-A274-D19EBF4E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5DB-BBBF-4F75-AFDC-420D9A61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E36-6FAE-47E3-B212-1EB031EA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0FCF-341C-45E1-A5EC-C086F5D2D4B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Sablona_ceska_LS.docx" TargetMode="External"/><Relationship Id="rId2" Type="http://schemas.openxmlformats.org/officeDocument/2006/relationships/hyperlink" Target="file:///Sablona_vejsada1.docx" TargetMode="External"/><Relationship Id="rId3" Type="http://schemas.openxmlformats.org/officeDocument/2006/relationships/hyperlink" Target="file:///Sablona_anglicka_LS.docx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136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Česky: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blona_ceska_LS.doc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ablona_vejsada1.doc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English: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ablona_anglicka_LS.doc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ablona_anglicka_LS_sample.doc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emplates and s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136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Česky: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ablona_ceska_LS.pdf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ablona_vejsada1.pdf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English: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ablona_anglicka_LS.pd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ablona_anglicka_LS_sample.pd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136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ow to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sort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the materials in the book – by author names, practical topics, math topics, 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hall we create an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of math top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ehr issues to discu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13600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ow to sort the materials in the book – by author names, practical topics, mathematical topics, pupils age 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hall we create an index according to mathematical top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ther issues to discu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15640" y="2205000"/>
            <a:ext cx="648036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aterials (photos, tasks) from the workshop in Vodnany: from the church and the muse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08:21:42Z</dcterms:created>
  <dc:creator>Samkova</dc:creator>
  <dc:description/>
  <dc:language>en-US</dc:language>
  <cp:lastModifiedBy>Libuse</cp:lastModifiedBy>
  <cp:lastPrinted>2016-11-25T08:14:56Z</cp:lastPrinted>
  <dcterms:modified xsi:type="dcterms:W3CDTF">2018-10-12T07:23:26Z</dcterms:modified>
  <cp:revision>504</cp:revision>
  <dc:subject/>
  <dc:title>Badatelsky orientované vyučování</dc:title>
</cp:coreProperties>
</file>